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6.png" ContentType="image/png"/>
  <Override PartName="/ppt/media/image1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jpeg" ContentType="image/jpeg"/>
  <Override PartName="/ppt/media/image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9E3A8-5A28-486B-BB75-40307EF214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07D-D99E-4D11-B97A-2945C8E5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3AB-45EC-471F-AFA9-6FD3D01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2DA-75D1-4C52-84FE-1DC11FC9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865-3AB3-411F-B250-169BAC74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526C-4DFD-4370-849C-B8133DCA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6C6E-F670-4F61-A97E-B9B00F7F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95BA-46A4-48D6-B25F-22955E00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4B3A-BE9F-4163-AD15-0BE49447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2199-747D-4963-A2C6-BA8270D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E04F-4A0A-4D68-88C7-DA830FD3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9CD-4591-4E40-844C-1B96CF8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E9C-73AE-4B1E-8034-F1427F39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7437-CE89-4CE9-9D47-BF69709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77C8-FA8F-42FB-ABF9-C3B685C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E2FC-05DF-4618-9066-8DF0F140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9E9-24AA-4B6A-BEBD-723E1393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0830-E780-45C8-8EC5-B1012051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46C4-DE4B-4DB9-8624-D1C998A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4C448-41ED-41EA-BB3F-D9B5751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7590-9492-48B5-9CE7-8593FF72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CA47-9DD8-4260-8CC4-44A01FAF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5D6D-736E-4FF6-A83B-AC09C8BF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9EA-AD46-4132-96C0-FB4A2442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7E65-D24D-4C2B-98C1-3BB24A5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7A9A-E482-4BED-87DD-48AB6A9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6509-21C5-4DEB-B16F-64CBE784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DA86-6685-42BF-BA65-FBDAFA5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5C8F2-D03B-4940-A566-B03950B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82AD6-2017-48E0-85E0-BAEF1724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E9BAD-40E1-4148-ABCC-30859BFC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950D2-6D3B-4619-9F94-9BCBAD3F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6C1EA-4E2C-456D-A267-AAF501FE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AB843-0B1F-4D09-81A5-96486563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1A8-AB73-4B3D-85DE-B6056A71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98956-8D1A-4167-9AC9-97C6B1FE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1B8F-F71D-460A-ADDA-3C2886CE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A210D-8DB5-4B05-AD1A-DE599028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8666-9ADE-4B77-89BC-600F54BF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C642-6FA5-45A2-BDBF-4D9F4ED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04DF0-ADA2-4893-8EB5-678695DD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4930-33DC-4929-A6AF-19190B8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C2ED-A498-4415-82E7-BAAD5123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F0B2-0D43-429B-A617-013B562F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B05-9348-4481-886B-44C12951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E58-60F9-4130-BA83-13FB1DC8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A3E-F855-4268-AA5F-D5909D71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047-F80B-4B95-B973-830AD89A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582-072F-4394-BDD0-F84E9C06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AEE77-F0DA-4789-B3A8-0AEF833007B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C608F-EA57-47DB-B587-21E4A66DCA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6474E-B550-4837-9549-25BBADCB427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17616-2A6D-46E5-AF69-A55E4A17788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634920" y="4581000"/>
            <a:ext cx="390708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Подготовила студентка 1 курса КЭО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Кайсинова Альби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"</a:t>
            </a:r>
            <a:r>
              <a:rPr b="1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3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"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Новая роль преподавател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и средств обучения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цессе обуче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Участники процесса Д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Заказчики систе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еподаватели координатор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Тьютор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(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бучаемы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олилиния 5" descr=""/>
          <p:cNvPicPr/>
          <p:nvPr/>
        </p:nvPicPr>
        <p:blipFill>
          <a:blip r:embed="rId1"/>
          <a:stretch/>
        </p:blipFill>
        <p:spPr>
          <a:xfrm>
            <a:off x="3236760" y="156672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48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49" name="Полилиния 7" descr=""/>
          <p:cNvPicPr/>
          <p:nvPr/>
        </p:nvPicPr>
        <p:blipFill>
          <a:blip r:embed="rId3"/>
          <a:stretch/>
        </p:blipFill>
        <p:spPr>
          <a:xfrm>
            <a:off x="3236760" y="2639880"/>
            <a:ext cx="5821560" cy="852480"/>
          </a:xfrm>
          <a:prstGeom prst="rect">
            <a:avLst/>
          </a:prstGeom>
          <a:ln w="0">
            <a:noFill/>
          </a:ln>
        </p:spPr>
      </p:pic>
      <p:pic>
        <p:nvPicPr>
          <p:cNvPr id="250" name="Полилиния 8" descr=""/>
          <p:cNvPicPr/>
          <p:nvPr/>
        </p:nvPicPr>
        <p:blipFill>
          <a:blip r:embed="rId4"/>
          <a:stretch/>
        </p:blipFill>
        <p:spPr>
          <a:xfrm>
            <a:off x="92160" y="224316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1" name="Полилиния 9" descr=""/>
          <p:cNvPicPr/>
          <p:nvPr/>
        </p:nvPicPr>
        <p:blipFill>
          <a:blip r:embed="rId5"/>
          <a:stretch/>
        </p:blipFill>
        <p:spPr>
          <a:xfrm>
            <a:off x="3236760" y="3706920"/>
            <a:ext cx="5846760" cy="858600"/>
          </a:xfrm>
          <a:prstGeom prst="rect">
            <a:avLst/>
          </a:prstGeom>
          <a:ln w="0">
            <a:noFill/>
          </a:ln>
        </p:spPr>
      </p:pic>
      <p:pic>
        <p:nvPicPr>
          <p:cNvPr id="252" name="Полилиния 10" descr=""/>
          <p:cNvPicPr/>
          <p:nvPr/>
        </p:nvPicPr>
        <p:blipFill>
          <a:blip r:embed="rId6"/>
          <a:stretch/>
        </p:blipFill>
        <p:spPr>
          <a:xfrm>
            <a:off x="92160" y="3309840"/>
            <a:ext cx="3247920" cy="1847880"/>
          </a:xfrm>
          <a:prstGeom prst="rect">
            <a:avLst/>
          </a:prstGeom>
          <a:ln w="0">
            <a:noFill/>
          </a:ln>
        </p:spPr>
      </p:pic>
      <p:pic>
        <p:nvPicPr>
          <p:cNvPr id="253" name="Полилиния 11" descr=""/>
          <p:cNvPicPr/>
          <p:nvPr/>
        </p:nvPicPr>
        <p:blipFill>
          <a:blip r:embed="rId7"/>
          <a:stretch/>
        </p:blipFill>
        <p:spPr>
          <a:xfrm>
            <a:off x="3236760" y="477360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4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255" name="Полилиния 13" descr=""/>
          <p:cNvPicPr/>
          <p:nvPr/>
        </p:nvPicPr>
        <p:blipFill>
          <a:blip r:embed="rId9"/>
          <a:stretch/>
        </p:blipFill>
        <p:spPr>
          <a:xfrm>
            <a:off x="3236760" y="5846760"/>
            <a:ext cx="582156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0040"/>
            <a:ext cx="3247920" cy="184608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2" descr=""/>
          <p:cNvPicPr/>
          <p:nvPr/>
        </p:nvPicPr>
        <p:blipFill>
          <a:blip r:embed="rId11"/>
          <a:stretch/>
        </p:blipFill>
        <p:spPr>
          <a:xfrm>
            <a:off x="66600" y="66600"/>
            <a:ext cx="882828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869320" cy="9684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4211640" y="1322280"/>
            <a:ext cx="4687920" cy="351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08000" y="1341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4913280" y="1413000"/>
            <a:ext cx="4211640" cy="4071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96640"/>
            <a:ext cx="5112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7400"/>
            <a:ext cx="50576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0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4716360" y="148428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6299280" y="2421000"/>
            <a:ext cx="2846160" cy="2728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ехнологии Организации Дистанционного Обучен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15840" y="148428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2" descr=""/>
          <p:cNvPicPr/>
          <p:nvPr/>
        </p:nvPicPr>
        <p:blipFill>
          <a:blip r:embed="rId1"/>
          <a:stretch/>
        </p:blipFill>
        <p:spPr>
          <a:xfrm>
            <a:off x="139680" y="171360"/>
            <a:ext cx="9040680" cy="96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rebuchet MS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и аудио – видеокассет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1988640"/>
            <a:ext cx="776448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277" name="_s1028"/>
            <p:cNvCxnSpPr>
              <a:stCxn id="278" idx="0"/>
              <a:endCxn id="279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1029"/>
            <p:cNvCxnSpPr>
              <a:stCxn id="281" idx="0"/>
              <a:endCxn id="279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1030"/>
            <p:cNvCxnSpPr>
              <a:stCxn id="283" idx="0"/>
              <a:endCxn id="279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9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84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2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Trebuchet MS"/>
              </a:rPr>
              <a:t>                       (сетевая технология)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5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0" y="2298240"/>
            <a:ext cx="91440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роводить обучение большого количества человек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оздать единую образовательную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среду (особенно актуально дл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Trebuchet MS"/>
              </a:rPr>
              <a:t>корпоративного обучени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Использование технологий дистанционного обучения позволяет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2"/>
          <p:cNvSpPr/>
          <p:nvPr/>
        </p:nvSpPr>
        <p:spPr>
          <a:xfrm>
            <a:off x="250920" y="-30240"/>
            <a:ext cx="88930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91880" y="1760040"/>
            <a:ext cx="89643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Гибк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Модульность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кономическая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эффективность: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 50% дешевле традиционных форм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бразо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Admin</cp:lastModifiedBy>
  <dcterms:modified xsi:type="dcterms:W3CDTF">2022-06-22T15:09:07Z</dcterms:modified>
  <cp:revision>80</cp:revision>
  <dc:subject/>
  <dc:title>Дистанционное обучение</dc:title>
</cp:coreProperties>
</file>