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6.png" ContentType="image/png"/>
  <Override PartName="/ppt/media/image1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jpeg" ContentType="image/jpeg"/>
  <Override PartName="/ppt/media/image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6CE5D-17B4-493D-B608-F266FD6910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DF7-9896-42D1-8712-C0E67A6C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659-0B55-4E2D-A37B-59A2FC8C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F8C-99DA-4165-8548-B7948680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0E2-7D45-4BC3-9145-648B0586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6AF0-EF82-4566-A5B7-A253B5A2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DEA3-963F-4982-9056-32EED7AE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C6B4-0F6D-4180-9043-408F58A2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2B10-1138-470D-B8D0-C39A75CC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E94C-6406-4177-A06D-EECC079D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3CFF-D911-48F2-8ED0-E195111C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44EB-907B-4F93-8182-AA2CD757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E91-F7E1-4977-9193-BCC205F5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3ADB-EE34-42F6-8DB5-A3A44801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7933-03FD-48CD-BFED-7273C6EB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5C1E-E1CB-40D3-A71F-3CFA0D54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4D2D-EA48-4FB5-9513-13E60051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B862-E6E7-4A79-901A-FD0E8007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10D1-193B-40F6-941C-7A7030DD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94DB9-0912-4803-8A24-B524250F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B692-E5AD-4B32-95E7-39FAE9E1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0DB8-ED50-4DCA-9294-FC6688C6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4716-1064-4971-9CB9-110A87DF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859-3706-43F4-B569-95DD438E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2A28-BC8D-4EFB-A781-3C366747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388F-C039-4087-8ABA-8A2C794D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55698-6B6F-45B9-A457-115F748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D08A2-09D7-467B-86AC-565F9E0F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8A4B-758E-438D-8453-AFAC539A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220A-8647-4867-B9CD-5B5A4184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3491-1C60-4BF2-8BF7-62887E77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47FDB-8C98-40EE-B605-4D344D50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3CD6-BF09-451F-B3D1-F8E8554C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B427-D5B6-4EDC-8FFF-5A458097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B39-4727-4F7E-95EE-FC99BCC3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3BB77-8771-43CF-A2A5-2A32E4B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19BF4-F07D-482B-836E-81E3BEA8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1A6B-190B-4459-AF11-3C6990B3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CE684-9707-4D7B-96AC-02C03AE0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9A21-97C2-45B8-B152-5BB187D3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BCAE-6335-47B8-BF60-76C281E5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95380-BB3A-4864-A5E1-A70EADA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B48E-5836-4FDF-9F5A-9903662F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C3E9F-FC74-452C-863D-A0E05C4E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2BD-FD0F-487B-AE8F-A0018215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E93-2CE3-41C4-955D-862AA0AE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87B-0C22-4CF7-872B-6872A45E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224-D27B-4EA9-AC44-252F1D61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5C2-2DD2-4F72-8C68-85BC12E0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F3B8B-BDE7-4E7F-820E-B06C01E2B35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821E1-051A-4897-AB68-4112894EFA3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2DA57-D3FB-4A87-ABF2-72D2E3CCC64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A914E-C1E5-40FC-BDB5-04EE4C4661C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634920" y="4581000"/>
            <a:ext cx="390708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дготовила студентка 1 курса КЭ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йсинова Альби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"</a:t>
            </a:r>
            <a:r>
              <a:rPr b="1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"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Новая роль преподавател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и средств обучения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цессе обуч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Участники процесса ДО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казчики систе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подаватели координато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ьютор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учаемы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олилиния 5" descr=""/>
          <p:cNvPicPr/>
          <p:nvPr/>
        </p:nvPicPr>
        <p:blipFill>
          <a:blip r:embed="rId1"/>
          <a:stretch/>
        </p:blipFill>
        <p:spPr>
          <a:xfrm>
            <a:off x="3236760" y="156672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48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49" name="Полилиния 7" descr=""/>
          <p:cNvPicPr/>
          <p:nvPr/>
        </p:nvPicPr>
        <p:blipFill>
          <a:blip r:embed="rId3"/>
          <a:stretch/>
        </p:blipFill>
        <p:spPr>
          <a:xfrm>
            <a:off x="3236760" y="2639880"/>
            <a:ext cx="5821560" cy="852480"/>
          </a:xfrm>
          <a:prstGeom prst="rect">
            <a:avLst/>
          </a:prstGeom>
          <a:ln w="0">
            <a:noFill/>
          </a:ln>
        </p:spPr>
      </p:pic>
      <p:pic>
        <p:nvPicPr>
          <p:cNvPr id="250" name="Полилиния 8" descr=""/>
          <p:cNvPicPr/>
          <p:nvPr/>
        </p:nvPicPr>
        <p:blipFill>
          <a:blip r:embed="rId4"/>
          <a:stretch/>
        </p:blipFill>
        <p:spPr>
          <a:xfrm>
            <a:off x="92160" y="224316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51" name="Полилиния 9" descr=""/>
          <p:cNvPicPr/>
          <p:nvPr/>
        </p:nvPicPr>
        <p:blipFill>
          <a:blip r:embed="rId5"/>
          <a:stretch/>
        </p:blipFill>
        <p:spPr>
          <a:xfrm>
            <a:off x="3236760" y="3706920"/>
            <a:ext cx="5846760" cy="858600"/>
          </a:xfrm>
          <a:prstGeom prst="rect">
            <a:avLst/>
          </a:prstGeom>
          <a:ln w="0">
            <a:noFill/>
          </a:ln>
        </p:spPr>
      </p:pic>
      <p:pic>
        <p:nvPicPr>
          <p:cNvPr id="252" name="Полилиния 10" descr=""/>
          <p:cNvPicPr/>
          <p:nvPr/>
        </p:nvPicPr>
        <p:blipFill>
          <a:blip r:embed="rId6"/>
          <a:stretch/>
        </p:blipFill>
        <p:spPr>
          <a:xfrm>
            <a:off x="92160" y="330984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Полилиния 11" descr=""/>
          <p:cNvPicPr/>
          <p:nvPr/>
        </p:nvPicPr>
        <p:blipFill>
          <a:blip r:embed="rId7"/>
          <a:stretch/>
        </p:blipFill>
        <p:spPr>
          <a:xfrm>
            <a:off x="3236760" y="477360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54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255" name="Полилиния 13" descr=""/>
          <p:cNvPicPr/>
          <p:nvPr/>
        </p:nvPicPr>
        <p:blipFill>
          <a:blip r:embed="rId9"/>
          <a:stretch/>
        </p:blipFill>
        <p:spPr>
          <a:xfrm>
            <a:off x="3236760" y="584676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56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0040"/>
            <a:ext cx="3247920" cy="1846080"/>
          </a:xfrm>
          <a:prstGeom prst="rect">
            <a:avLst/>
          </a:prstGeom>
          <a:ln w="0">
            <a:noFill/>
          </a:ln>
        </p:spPr>
      </p:pic>
      <p:pic>
        <p:nvPicPr>
          <p:cNvPr id="257" name="Заголовок 2" descr=""/>
          <p:cNvPicPr/>
          <p:nvPr/>
        </p:nvPicPr>
        <p:blipFill>
          <a:blip r:embed="rId11"/>
          <a:stretch/>
        </p:blipFill>
        <p:spPr>
          <a:xfrm>
            <a:off x="66600" y="66600"/>
            <a:ext cx="88282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152280" y="171360"/>
            <a:ext cx="8869320" cy="968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4211640" y="1322280"/>
            <a:ext cx="4687920" cy="3516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08000" y="1341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4913280" y="1413000"/>
            <a:ext cx="4211640" cy="4071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9280" y="1196640"/>
            <a:ext cx="5112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157400"/>
            <a:ext cx="50576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4716360" y="148428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6299280" y="2421000"/>
            <a:ext cx="2846160" cy="2728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5840" y="148428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2" descr=""/>
          <p:cNvPicPr/>
          <p:nvPr/>
        </p:nvPicPr>
        <p:blipFill>
          <a:blip r:embed="rId1"/>
          <a:stretch/>
        </p:blipFill>
        <p:spPr>
          <a:xfrm>
            <a:off x="139680" y="171360"/>
            <a:ext cx="9040680" cy="968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и аудио – видеокассе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7764480" cy="17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277" name="_s1028"/>
            <p:cNvCxnSpPr>
              <a:stCxn id="278" idx="0"/>
              <a:endCxn id="279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1029"/>
            <p:cNvCxnSpPr>
              <a:stCxn id="281" idx="0"/>
              <a:endCxn id="279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1030"/>
            <p:cNvCxnSpPr>
              <a:stCxn id="283" idx="0"/>
              <a:endCxn id="279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9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84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2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                       (сетевая технология)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2298240"/>
            <a:ext cx="91440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проводить обучение большого количества человек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оздать единую образовательную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реду (особенно актуально дл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корпоративного обучения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Использование технологий дистанционного обучения позволяет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2"/>
          <p:cNvSpPr/>
          <p:nvPr/>
        </p:nvSpPr>
        <p:spPr>
          <a:xfrm>
            <a:off x="250920" y="-30240"/>
            <a:ext cx="889308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91880" y="1760040"/>
            <a:ext cx="896436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Гибкость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Модульность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Экономическа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эффективность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 50% дешевле традиционных форм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разова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Admin</cp:lastModifiedBy>
  <dcterms:modified xsi:type="dcterms:W3CDTF">2022-06-22T15:09:07Z</dcterms:modified>
  <cp:revision>80</cp:revision>
  <dc:subject/>
  <dc:title>Дистанционное обучение</dc:title>
</cp:coreProperties>
</file>