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jpeg" ContentType="image/jpeg"/>
  <Override PartName="/ppt/media/image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BD9EB-ABA3-4444-9992-7FBBC30BF0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EE0-356F-44E7-A2CD-A5C838D5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E6A-F924-4729-8CE7-5FCDDA4A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D17-09F1-496E-90E3-225D99F5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569-8C59-4225-BD6F-D5F1CF3E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C253-033C-45EF-AA1F-50783532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26F1-1CBC-4B59-A062-3669BE3F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DE4C-E938-4029-8EA8-635D1836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2E76-D091-441A-8819-001F2B89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D9A-A532-46ED-8B43-FF21824B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D28A-F10F-41F9-8AAB-C7D3D32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6C67-EA5E-4D9D-90F1-B7A634B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83D-5535-4CD2-A9CE-392C9E4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F0A3-7388-4689-9380-EC2AA85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2ACE-D38E-49D9-BB80-53494B13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CEC4-A31F-44DE-A2DA-26B39D9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534C-187A-491E-924D-8B13414B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3A67-9AC7-4552-A0A5-0E8C6A0F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503C-2D09-41D8-97DB-CC46CE0D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87EE-CFE2-4E3A-8997-D7B749EE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2E5A-EE61-470B-A2F1-00E9587A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6028-78A2-4826-AFC2-47EBEDE7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74FB-131E-4778-9676-C3AE5E02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2F0-6E66-4787-B435-35A8A0C3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33F9-BA89-4EAF-912C-18873476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771C-5C96-432B-B9A7-2701BEB1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21C83-7FA2-4B95-8014-DEE8558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8CE0-1453-463C-947C-43A6D9C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500B-FE1F-4576-BD78-F40F4907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E25E-D779-4A1B-AA10-06FF753F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6B1E-585B-4B1D-B63E-7C13AAF6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BE32-D8AB-4C0B-8E89-FE669F62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F89C-8130-4531-B36B-331B9D22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117D-928F-4049-AA61-55B6E63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D54-C9CD-4EF4-BEF4-714F49BC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BE582-3441-4C67-BF5A-E6F71CC9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E53F-8B8D-4D2B-9EBC-EE12DEC6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61B6-37E0-4A84-82D0-C377AC89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7E44-2004-4D07-B094-981299C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B38D-5DE7-44CD-9FC7-CC06522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A2EB-14F9-4149-9ECE-D27FA23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1F4B-16AB-4C70-85C0-30B09767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18BC-880F-45A5-BA36-4EF9597C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87E3-3EC2-477D-957D-A628EED0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618-684D-475D-B2C3-7AA1499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FA6-75D6-474E-8916-63CE334D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F6B-C3BD-4C05-A428-181CA02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959-EDEA-4A8A-984D-584907B4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9DB-14E6-48FB-8B19-F945553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048A1-6B3F-4A6A-9352-F2707FFF721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9202D-53C6-4E84-837E-AF885A5B222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A16E3-AB90-47AB-8BF3-B730004650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61672-C850-44CE-BE0A-7CDD110E552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634920" y="4581000"/>
            <a:ext cx="39070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дготовила студентка 1 курса КЭ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йсинова Альби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"</a:t>
            </a: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"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Новая роль преподавател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 средств обучения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цессе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Участники процесса Д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казчики систе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 координато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ьютор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учаемы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олилиния 5" descr=""/>
          <p:cNvPicPr/>
          <p:nvPr/>
        </p:nvPicPr>
        <p:blipFill>
          <a:blip r:embed="rId1"/>
          <a:stretch/>
        </p:blipFill>
        <p:spPr>
          <a:xfrm>
            <a:off x="3236760" y="156672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49" name="Полилиния 7" descr=""/>
          <p:cNvPicPr/>
          <p:nvPr/>
        </p:nvPicPr>
        <p:blipFill>
          <a:blip r:embed="rId3"/>
          <a:stretch/>
        </p:blipFill>
        <p:spPr>
          <a:xfrm>
            <a:off x="3236760" y="2639880"/>
            <a:ext cx="5821560" cy="852480"/>
          </a:xfrm>
          <a:prstGeom prst="rect">
            <a:avLst/>
          </a:prstGeom>
          <a:ln w="0">
            <a:noFill/>
          </a:ln>
        </p:spPr>
      </p:pic>
      <p:pic>
        <p:nvPicPr>
          <p:cNvPr id="250" name="Полилиния 8" descr=""/>
          <p:cNvPicPr/>
          <p:nvPr/>
        </p:nvPicPr>
        <p:blipFill>
          <a:blip r:embed="rId4"/>
          <a:stretch/>
        </p:blipFill>
        <p:spPr>
          <a:xfrm>
            <a:off x="92160" y="224316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1" name="Полилиния 9" descr=""/>
          <p:cNvPicPr/>
          <p:nvPr/>
        </p:nvPicPr>
        <p:blipFill>
          <a:blip r:embed="rId5"/>
          <a:stretch/>
        </p:blipFill>
        <p:spPr>
          <a:xfrm>
            <a:off x="3236760" y="3706920"/>
            <a:ext cx="5846760" cy="858600"/>
          </a:xfrm>
          <a:prstGeom prst="rect">
            <a:avLst/>
          </a:prstGeom>
          <a:ln w="0">
            <a:noFill/>
          </a:ln>
        </p:spPr>
      </p:pic>
      <p:pic>
        <p:nvPicPr>
          <p:cNvPr id="252" name="Полилиния 10" descr=""/>
          <p:cNvPicPr/>
          <p:nvPr/>
        </p:nvPicPr>
        <p:blipFill>
          <a:blip r:embed="rId6"/>
          <a:stretch/>
        </p:blipFill>
        <p:spPr>
          <a:xfrm>
            <a:off x="92160" y="330984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Полилиния 11" descr=""/>
          <p:cNvPicPr/>
          <p:nvPr/>
        </p:nvPicPr>
        <p:blipFill>
          <a:blip r:embed="rId7"/>
          <a:stretch/>
        </p:blipFill>
        <p:spPr>
          <a:xfrm>
            <a:off x="3236760" y="477360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255" name="Полилиния 13" descr=""/>
          <p:cNvPicPr/>
          <p:nvPr/>
        </p:nvPicPr>
        <p:blipFill>
          <a:blip r:embed="rId9"/>
          <a:stretch/>
        </p:blipFill>
        <p:spPr>
          <a:xfrm>
            <a:off x="3236760" y="584676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6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0040"/>
            <a:ext cx="3247920" cy="184608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2" descr=""/>
          <p:cNvPicPr/>
          <p:nvPr/>
        </p:nvPicPr>
        <p:blipFill>
          <a:blip r:embed="rId11"/>
          <a:stretch/>
        </p:blipFill>
        <p:spPr>
          <a:xfrm>
            <a:off x="66600" y="66600"/>
            <a:ext cx="88282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869320" cy="968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4211640" y="1322280"/>
            <a:ext cx="4687920" cy="3516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8000" y="1341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4913280" y="1413000"/>
            <a:ext cx="4211640" cy="4071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196640"/>
            <a:ext cx="5112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7400"/>
            <a:ext cx="50576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4716360" y="148428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6299280" y="2421000"/>
            <a:ext cx="2846160" cy="2728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5840" y="148428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139680" y="171360"/>
            <a:ext cx="9040680" cy="968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и аудио – видеокассе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6448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277" name="_s1028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1029"/>
            <p:cNvCxnSpPr>
              <a:stCxn id="281" idx="0"/>
              <a:endCxn id="279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1030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9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4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2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(сетевая технология)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2298240"/>
            <a:ext cx="91440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роводить обучение большого количества человек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оздать единую образовательную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реду (особенно актуально дл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корпоративного обучения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Использование технологий дистанционного обучения позволяе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2"/>
          <p:cNvSpPr/>
          <p:nvPr/>
        </p:nvSpPr>
        <p:spPr>
          <a:xfrm>
            <a:off x="250920" y="-30240"/>
            <a:ext cx="88930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1880" y="1760040"/>
            <a:ext cx="896436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Гибк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Модульн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кономическа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ффективность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 50% дешевле традиционных форм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разо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Admin</cp:lastModifiedBy>
  <dcterms:modified xsi:type="dcterms:W3CDTF">2022-06-22T15:09:07Z</dcterms:modified>
  <cp:revision>80</cp:revision>
  <dc:subject/>
  <dc:title>Дистанционное обучение</dc:title>
</cp:coreProperties>
</file>