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3.jpeg" ContentType="image/jpeg"/>
  <Override PartName="/ppt/media/image30.jpeg" ContentType="image/jpeg"/>
  <Override PartName="/ppt/media/image15.png" ContentType="image/png"/>
  <Override PartName="/ppt/media/image24.jpeg" ContentType="image/jpeg"/>
  <Override PartName="/ppt/media/image25.jpeg" ContentType="image/jpeg"/>
  <Override PartName="/ppt/media/image4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8.png" ContentType="image/png"/>
  <Override PartName="/ppt/media/image13.png" ContentType="image/png"/>
  <Override PartName="/ppt/media/image22.jpeg" ContentType="image/jpeg"/>
  <Override PartName="/ppt/media/image9.png" ContentType="image/png"/>
  <Override PartName="/ppt/media/image11.png" ContentType="image/png"/>
  <Override PartName="/ppt/media/image12.png" ContentType="image/png"/>
  <Override PartName="/ppt/media/image23.jpeg" ContentType="image/jpeg"/>
  <Override PartName="/ppt/media/image5.png" ContentType="image/png"/>
  <Override PartName="/ppt/media/image29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DA5C6-DEC9-48D6-BA0D-A2A1A2CE3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ми компонентами технологий ДО, от которых зависит эффективность обучения, я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бор учебного материала для различных средств доставки знаний, его организация и структурирование определяются дидактическими свойствами компонентов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тель должен управлять процессом учения и контролировать уровень полученных знаний, качество освоенных умений и приобретенных навы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оме того, в учебный материал должны быть встроены тесты для оперативного контроля и интерактивные тренинг - тесты для самоконтроля, выполнение которых направлено, прежде всего, на закрепление учебного материала. Инструментальные средства для подготовки учебного материала выбираются в зависимости от технологической основы и вида учебных занятий (лекция, активный семинар, лабораторный компьютерный тренинг и т.д.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1682-E4B5-46F6-866F-CFD00510B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3D92-1B61-4C7A-8E7D-C11DA7922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D7A5-B9E5-4373-AB35-A8656EE06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F892-CC4A-4D32-B763-170466B7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9B63-0C6E-4DA1-A973-72B9F97C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BC03-FE86-4BBF-A431-BF51FD16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EC95-CCCB-4215-BEE3-1424DA305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9698-764E-4E89-B4F0-3B87AAA6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52FB-FD35-448D-A1DB-D54FD6336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C288-E7B3-46A9-A739-24828FDC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B8F3-7CD5-4E33-BA94-E1B4AA4B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CA4C-9AD8-4205-AB24-973A157B4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11530-1526-4676-A80D-64C608B2AF70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2232000"/>
          </a:xfrm>
          <a:prstGeom prst="rect">
            <a:avLst/>
          </a:prstGeom>
          <a:solidFill>
            <a:srgbClr val="ff0000">
              <a:alpha val="58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Методика и технология проведения лекций в режиме on-line для корпоративного обучения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37280" y="4365360"/>
            <a:ext cx="3906720" cy="10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Подготовила студентка 1 курса КЭ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898989"/>
                </a:solidFill>
                <a:latin typeface="Calibri"/>
              </a:rPr>
              <a:t>Санакоева Диан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160200" y="126792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Новая роль преподавател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на него возлагаются такие функции, как координирование познавательного процесса, корректировка преподаваемого курса, консультирование, руководство учебными проектами и др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Специализированный контроль качества образовани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качестве форм контроля в дистанционном обучении используются дистанционно организованные экзамены, собеседования, практические, курсовые и проектные работы, экстернат, компьютерные интеллектуальные тестирующие системы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ользование специализированных технологи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 средств обучения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ехнология дистанционного обучения - это совокупность методов, форм и средств взаимодействия с человеком в процессе самостоятельного, но контролируемого освоения им определенного массива знаний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08000" y="115920"/>
            <a:ext cx="8856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танционное обучение (ДО)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— совокупность технологий, обеспечивающих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оставку обучаемым основного объема изучаемого материал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терактивное взаимодействие  обучаемых и преподавателей в процессе обучения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доставление обучаемым возможности самостоятельной работы по освоению изучаемого                                                                                               материала, а также в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оцессе обу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890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Участники процесса Д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052280"/>
            <a:ext cx="90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аказчики систем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-консультанты и авторы курс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изайнер курсов (специалист по разработке курсов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оординаторы работы системы в це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еподаватели координатор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ьютор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торически сложившаяся особая педагогическая 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учаемы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15" descr="Lectio1"/>
          <p:cNvPicPr/>
          <p:nvPr/>
        </p:nvPicPr>
        <p:blipFill>
          <a:blip r:embed="rId8"/>
          <a:stretch/>
        </p:blipFill>
        <p:spPr>
          <a:xfrm>
            <a:off x="1258920" y="4118040"/>
            <a:ext cx="7256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Полилиния 5" descr=""/>
          <p:cNvPicPr/>
          <p:nvPr/>
        </p:nvPicPr>
        <p:blipFill>
          <a:blip r:embed="rId1"/>
          <a:stretch/>
        </p:blipFill>
        <p:spPr>
          <a:xfrm>
            <a:off x="3230640" y="156672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77" name="Полилиния 6" descr=""/>
          <p:cNvPicPr/>
          <p:nvPr/>
        </p:nvPicPr>
        <p:blipFill>
          <a:blip r:embed="rId2"/>
          <a:stretch/>
        </p:blipFill>
        <p:spPr>
          <a:xfrm>
            <a:off x="92160" y="117648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78" name="Полилиния 7" descr=""/>
          <p:cNvPicPr/>
          <p:nvPr/>
        </p:nvPicPr>
        <p:blipFill>
          <a:blip r:embed="rId3"/>
          <a:stretch/>
        </p:blipFill>
        <p:spPr>
          <a:xfrm>
            <a:off x="3230640" y="2639880"/>
            <a:ext cx="5827680" cy="852480"/>
          </a:xfrm>
          <a:prstGeom prst="rect">
            <a:avLst/>
          </a:prstGeom>
          <a:ln w="0">
            <a:noFill/>
          </a:ln>
        </p:spPr>
      </p:pic>
      <p:pic>
        <p:nvPicPr>
          <p:cNvPr id="79" name="Полилиния 8" descr=""/>
          <p:cNvPicPr/>
          <p:nvPr/>
        </p:nvPicPr>
        <p:blipFill>
          <a:blip r:embed="rId4"/>
          <a:stretch/>
        </p:blipFill>
        <p:spPr>
          <a:xfrm>
            <a:off x="92160" y="224964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0" name="Полилиния 9" descr=""/>
          <p:cNvPicPr/>
          <p:nvPr/>
        </p:nvPicPr>
        <p:blipFill>
          <a:blip r:embed="rId5"/>
          <a:stretch/>
        </p:blipFill>
        <p:spPr>
          <a:xfrm>
            <a:off x="3230640" y="3706920"/>
            <a:ext cx="5827680" cy="858600"/>
          </a:xfrm>
          <a:prstGeom prst="rect">
            <a:avLst/>
          </a:prstGeom>
          <a:ln w="0">
            <a:noFill/>
          </a:ln>
        </p:spPr>
      </p:pic>
      <p:pic>
        <p:nvPicPr>
          <p:cNvPr id="81" name="Полилиния 10" descr=""/>
          <p:cNvPicPr/>
          <p:nvPr/>
        </p:nvPicPr>
        <p:blipFill>
          <a:blip r:embed="rId6"/>
          <a:stretch/>
        </p:blipFill>
        <p:spPr>
          <a:xfrm>
            <a:off x="92160" y="3316320"/>
            <a:ext cx="3247920" cy="1841400"/>
          </a:xfrm>
          <a:prstGeom prst="rect">
            <a:avLst/>
          </a:prstGeom>
          <a:ln w="0">
            <a:noFill/>
          </a:ln>
        </p:spPr>
      </p:pic>
      <p:pic>
        <p:nvPicPr>
          <p:cNvPr id="82" name="Полилиния 11" descr=""/>
          <p:cNvPicPr/>
          <p:nvPr/>
        </p:nvPicPr>
        <p:blipFill>
          <a:blip r:embed="rId7"/>
          <a:stretch/>
        </p:blipFill>
        <p:spPr>
          <a:xfrm>
            <a:off x="3230640" y="477360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3" name="Полилиния 12" descr=""/>
          <p:cNvPicPr/>
          <p:nvPr/>
        </p:nvPicPr>
        <p:blipFill>
          <a:blip r:embed="rId8"/>
          <a:stretch/>
        </p:blipFill>
        <p:spPr>
          <a:xfrm>
            <a:off x="92160" y="4383000"/>
            <a:ext cx="3247920" cy="1846440"/>
          </a:xfrm>
          <a:prstGeom prst="rect">
            <a:avLst/>
          </a:prstGeom>
          <a:ln w="0">
            <a:noFill/>
          </a:ln>
        </p:spPr>
      </p:pic>
      <p:pic>
        <p:nvPicPr>
          <p:cNvPr id="84" name="Полилиния 13" descr=""/>
          <p:cNvPicPr/>
          <p:nvPr/>
        </p:nvPicPr>
        <p:blipFill>
          <a:blip r:embed="rId9"/>
          <a:stretch/>
        </p:blipFill>
        <p:spPr>
          <a:xfrm>
            <a:off x="3230640" y="5846760"/>
            <a:ext cx="5827680" cy="858960"/>
          </a:xfrm>
          <a:prstGeom prst="rect">
            <a:avLst/>
          </a:prstGeom>
          <a:ln w="0">
            <a:noFill/>
          </a:ln>
        </p:spPr>
      </p:pic>
      <p:pic>
        <p:nvPicPr>
          <p:cNvPr id="85" name="Полилиния 14" descr=""/>
          <p:cNvPicPr/>
          <p:nvPr/>
        </p:nvPicPr>
        <p:blipFill>
          <a:blip r:embed="rId10"/>
          <a:stretch/>
        </p:blipFill>
        <p:spPr>
          <a:xfrm>
            <a:off x="92160" y="5456160"/>
            <a:ext cx="3247920" cy="1839960"/>
          </a:xfrm>
          <a:prstGeom prst="rect">
            <a:avLst/>
          </a:prstGeom>
          <a:ln w="0">
            <a:noFill/>
          </a:ln>
        </p:spPr>
      </p:pic>
      <p:pic>
        <p:nvPicPr>
          <p:cNvPr id="86" name="Заголовок 2" descr=""/>
          <p:cNvPicPr/>
          <p:nvPr/>
        </p:nvPicPr>
        <p:blipFill>
          <a:blip r:embed="rId11"/>
          <a:stretch/>
        </p:blipFill>
        <p:spPr>
          <a:xfrm>
            <a:off x="92160" y="152280"/>
            <a:ext cx="8955000" cy="11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1"/>
          <a:stretch/>
        </p:blipFill>
        <p:spPr>
          <a:xfrm>
            <a:off x="334800" y="219240"/>
            <a:ext cx="8686800" cy="107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565200" y="1341360"/>
            <a:ext cx="8229600" cy="21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труктуризация курса должна обеспечивать возможность вовлечения обучаемых в самостоятельную познавательную деятельность, т.е. осуществление процесса учения, а не преподава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6"/>
          <p:cNvSpPr/>
          <p:nvPr/>
        </p:nvSpPr>
        <p:spPr>
          <a:xfrm>
            <a:off x="677880" y="3357720"/>
            <a:ext cx="799308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рс должен быть структурирован не только по темам, но и по уровням сложности, с учетом различной степени подготовки обучающихс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rcRect l="0" t="18570" r="0" b="58253"/>
          <a:stretch/>
        </p:blipFill>
        <p:spPr>
          <a:xfrm>
            <a:off x="1001880" y="5013360"/>
            <a:ext cx="7345080" cy="1165320"/>
          </a:xfrm>
          <a:prstGeom prst="rect">
            <a:avLst/>
          </a:prstGeom>
          <a:ln w="38160">
            <a:solidFill>
              <a:srgbClr val="2baea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903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4665600" y="1125360"/>
            <a:ext cx="4470480" cy="44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</a:rPr>
              <a:t>CASE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учебные пособия, методические указания, пакеты проверочных заданий и контрольных работ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чатные издания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http://900igr.net/datas/pedagogika/Kejs-tekhnologija/0005-005-Metody-kejs-tekhnologii.jpg"/>
          <p:cNvPicPr/>
          <p:nvPr/>
        </p:nvPicPr>
        <p:blipFill>
          <a:blip r:embed="rId1"/>
          <a:stretch/>
        </p:blipFill>
        <p:spPr>
          <a:xfrm>
            <a:off x="20520" y="1782720"/>
            <a:ext cx="4687920" cy="351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853452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032000" y="1125360"/>
            <a:ext cx="51116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Verdana"/>
                <a:ea typeface="Verdana"/>
              </a:rPr>
              <a:t>Телевизионные технолог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чтение лекций и проведение занятий в прямом эфире, демонстрация видеозаписей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ионный сигнал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подключение к образовательным телевизионным сетям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  <a:ea typeface="Verdana"/>
              </a:rPr>
              <a:t> телевиз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6" descr="http://shkolazhizni.ru/img/content/i112/112373_or.jpg"/>
          <p:cNvPicPr/>
          <p:nvPr/>
        </p:nvPicPr>
        <p:blipFill>
          <a:blip r:embed="rId1"/>
          <a:stretch/>
        </p:blipFill>
        <p:spPr>
          <a:xfrm>
            <a:off x="0" y="1484280"/>
            <a:ext cx="4211640" cy="4071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0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4086360" y="1268280"/>
            <a:ext cx="505764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cc"/>
                </a:solidFill>
                <a:uFillTx/>
                <a:latin typeface="Verdana"/>
              </a:rPr>
              <a:t>Multimedia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электронные учебники, обучающие программы, программы для тестирования, аудио- и видеозаписи лекций, лабораторных работ, экскурсий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аудио- и видеокассеты, дискеты и компакт-диски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рассылка по почте или передача при личной встрече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400" spc="-1" strike="noStrike">
                <a:solidFill>
                  <a:srgbClr val="7030a0"/>
                </a:solidFill>
                <a:latin typeface="Verdana"/>
              </a:rPr>
              <a:t> персональный мультимедийный компьютер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http://go3.imgsmail.ru/imgpreview?key=7cb5278582f8ee56&amp;mb=imgdb_preview_655"/>
          <p:cNvPicPr/>
          <p:nvPr/>
        </p:nvPicPr>
        <p:blipFill>
          <a:blip r:embed="rId1"/>
          <a:stretch/>
        </p:blipFill>
        <p:spPr>
          <a:xfrm>
            <a:off x="0" y="1628640"/>
            <a:ext cx="4427640" cy="416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Технологии Организации Дистанционного Обуч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2890800" y="1125360"/>
            <a:ext cx="627372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cc"/>
                </a:solidFill>
                <a:uFillTx/>
                <a:latin typeface="Verdana"/>
              </a:rPr>
              <a:t>Internet-технолог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одержание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уроки и лекции в виде презентаций, виртуальные учебники, энциклопедии, справочники, виртуальные экскурсии и путешествия, виртуальная лаборатории, обучающие программы, тренажеры, игры, виртуальные семинары (теле- или видеоконференции), системы тестирования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Носитель информации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службы и протоколы Internet (www, e-mail, ftp и другие)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Способ доступа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одключение к сети Internet</a:t>
            </a:r>
            <a:br>
              <a:rPr sz="2000"/>
            </a:br>
            <a:r>
              <a:rPr b="1" lang="ru-RU" sz="2000" spc="-1" strike="noStrike">
                <a:solidFill>
                  <a:srgbClr val="7030a0"/>
                </a:solidFill>
                <a:latin typeface="Verdana"/>
              </a:rPr>
              <a:t>Дополнительные требования:</a:t>
            </a: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 персональный компьютер, подключенный к сети 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030a0"/>
                </a:solidFill>
                <a:latin typeface="Verdana"/>
              </a:rPr>
              <a:t>Позволяют организовать большую степень интерактивност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http://1.bp.blogspot.com/-gQfyw3k9vGk/TwB7N1pMQ5I/AAAAAAAAAVU/2YXRoCxEghU/s1600/internet-explorer.jpg"/>
          <p:cNvPicPr/>
          <p:nvPr/>
        </p:nvPicPr>
        <p:blipFill>
          <a:blip r:embed="rId1"/>
          <a:srcRect l="17550" t="3780" r="18198" b="3808"/>
          <a:stretch/>
        </p:blipFill>
        <p:spPr>
          <a:xfrm>
            <a:off x="44280" y="2133720"/>
            <a:ext cx="2846520" cy="272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Заголовок 2" descr=""/>
          <p:cNvPicPr/>
          <p:nvPr/>
        </p:nvPicPr>
        <p:blipFill>
          <a:blip r:embed="rId1"/>
          <a:stretch/>
        </p:blipFill>
        <p:spPr>
          <a:xfrm>
            <a:off x="237960" y="219240"/>
            <a:ext cx="8856720" cy="1073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68360" y="2060280"/>
            <a:ext cx="8229600" cy="3730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астоящее время существует множество различных средств доставки учебного материала: почта, телефон, факс, Internet, электронная почта, телеконференция, электронная доска, спутниковые образовательные системы, интерактивное телевидение, радио, а также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D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M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и аудио – видеокассеты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03040" y="105228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Развитие глобальной компьютерной сети Интернет открыло новые перспективы совершенствования мировой образовательной систем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Organization Chart 7"/>
          <p:cNvGrpSpPr/>
          <p:nvPr/>
        </p:nvGrpSpPr>
        <p:grpSpPr>
          <a:xfrm>
            <a:off x="196920" y="39600"/>
            <a:ext cx="8686080" cy="4494600"/>
            <a:chOff x="196920" y="39600"/>
            <a:chExt cx="8686080" cy="4494600"/>
          </a:xfrm>
        </p:grpSpPr>
        <p:cxnSp>
          <p:nvCxnSpPr>
            <p:cNvPr id="106" name="_s1028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56228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9" name="_s1029"/>
            <p:cNvCxnSpPr>
              <a:stCxn id="110" idx="0"/>
              <a:endCxn id="108" idx="2"/>
            </p:cNvCxnSpPr>
            <p:nvPr/>
          </p:nvCxnSpPr>
          <p:spPr>
            <a:xfrm flipV="1">
              <a:off x="4539600" y="1849680"/>
              <a:ext cx="3240" cy="8740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1" name="_s1030"/>
            <p:cNvCxnSpPr>
              <a:stCxn id="112" idx="0"/>
              <a:endCxn id="108" idx="2"/>
            </p:cNvCxnSpPr>
            <p:nvPr/>
          </p:nvCxnSpPr>
          <p:spPr>
            <a:xfrm flipH="1" flipV="1" rot="5400000">
              <a:off x="2582640" y="766080"/>
              <a:ext cx="874080" cy="3040920"/>
            </a:xfrm>
            <a:prstGeom prst="bentConnector3">
              <a:avLst>
                <a:gd name="adj1" fmla="val 130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8" name="_s1031"/>
            <p:cNvSpPr/>
            <p:nvPr/>
          </p:nvSpPr>
          <p:spPr>
            <a:xfrm>
              <a:off x="3237120" y="3960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и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истанционног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1032"/>
            <p:cNvSpPr/>
            <p:nvPr/>
          </p:nvSpPr>
          <p:spPr>
            <a:xfrm>
              <a:off x="1969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ейс-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033"/>
            <p:cNvSpPr/>
            <p:nvPr/>
          </p:nvSpPr>
          <p:spPr>
            <a:xfrm>
              <a:off x="32371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левизионно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путникова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034"/>
            <p:cNvSpPr/>
            <p:nvPr/>
          </p:nvSpPr>
          <p:spPr>
            <a:xfrm>
              <a:off x="6277320" y="2736360"/>
              <a:ext cx="2605680" cy="1797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нтернет-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бучени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(сетевая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технология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3" name="Picture 9" descr="83605057a"/>
          <p:cNvPicPr/>
          <p:nvPr/>
        </p:nvPicPr>
        <p:blipFill>
          <a:blip r:embed="rId1"/>
          <a:stretch/>
        </p:blipFill>
        <p:spPr>
          <a:xfrm>
            <a:off x="347760" y="4575240"/>
            <a:ext cx="2495520" cy="2282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video_conferencing"/>
          <p:cNvPicPr/>
          <p:nvPr/>
        </p:nvPicPr>
        <p:blipFill>
          <a:blip r:embed="rId2"/>
          <a:stretch/>
        </p:blipFill>
        <p:spPr>
          <a:xfrm>
            <a:off x="3220920" y="4646520"/>
            <a:ext cx="2638440" cy="2032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77ee73d418487ab572c55a6de3a57924"/>
          <p:cNvPicPr/>
          <p:nvPr/>
        </p:nvPicPr>
        <p:blipFill>
          <a:blip r:embed="rId3"/>
          <a:stretch/>
        </p:blipFill>
        <p:spPr>
          <a:xfrm>
            <a:off x="6373800" y="4646520"/>
            <a:ext cx="270504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949320"/>
            <a:ext cx="9236160" cy="31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ащийся получает необходимые материалы для курса. Связь поддерживается компьютером. Преподаватель-консультант ведет обучение с помощью телефона, почты и иных средств связ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1828800" y="260280"/>
            <a:ext cx="53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Arial"/>
              </a:rPr>
              <a:t>Кейс-технолог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9" descr="83605057a"/>
          <p:cNvPicPr/>
          <p:nvPr/>
        </p:nvPicPr>
        <p:blipFill>
          <a:blip r:embed="rId1"/>
          <a:stretch/>
        </p:blipFill>
        <p:spPr>
          <a:xfrm>
            <a:off x="1828800" y="2725560"/>
            <a:ext cx="583236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Телевизионно-спутниковая технолог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108000" y="112500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Основана на применении интерактивного телевидения: теле- и радиолекции, видеоконференции, виртуальные практические занятия и т.д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6" descr="video_conferencing"/>
          <p:cNvPicPr/>
          <p:nvPr/>
        </p:nvPicPr>
        <p:blipFill>
          <a:blip r:embed="rId1"/>
          <a:stretch/>
        </p:blipFill>
        <p:spPr>
          <a:xfrm>
            <a:off x="1979640" y="2565360"/>
            <a:ext cx="547200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0"/>
            <a:ext cx="883908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 </a:t>
            </a: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Интернет-обучение </a:t>
            </a:r>
            <a:br>
              <a:rPr sz="2900"/>
            </a:br>
            <a:r>
              <a:rPr b="1" lang="ru-RU" sz="2900" spc="-1" strike="noStrike">
                <a:solidFill>
                  <a:srgbClr val="0000cc"/>
                </a:solidFill>
                <a:latin typeface="Calibri"/>
              </a:rPr>
              <a:t>                       (сетевая технология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6320" y="1052640"/>
            <a:ext cx="9067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учаемый получает весь необходимый материал и связь с преподавателем (инструктором) также через сеть Интерне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5" descr="77ee73d418487ab572c55a6de3a57924"/>
          <p:cNvPicPr/>
          <p:nvPr/>
        </p:nvPicPr>
        <p:blipFill>
          <a:blip r:embed="rId1"/>
          <a:stretch/>
        </p:blipFill>
        <p:spPr>
          <a:xfrm>
            <a:off x="1547640" y="2708280"/>
            <a:ext cx="6583680" cy="396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Использование технологий дистанционного обучения позволяе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0" y="1157400"/>
            <a:ext cx="9144000" cy="45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низить затраты на проведение обучения (не требуется затрат на аренду помещений, поездок к месту учебы, как учащихся, так и преподавателей и т. п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роводить обучение большого количества человек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повысить качество обучения за счет применения современных средств, объемных электронных библиотек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оздать единую образователь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среду (особенно актуально дл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Calibri"/>
              </a:rPr>
              <a:t>корпоративного обучения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5" descr="http://eurasia.by/upload/dist.jpg"/>
          <p:cNvPicPr/>
          <p:nvPr/>
        </p:nvPicPr>
        <p:blipFill>
          <a:blip r:embed="rId1"/>
          <a:stretch/>
        </p:blipFill>
        <p:spPr>
          <a:xfrm>
            <a:off x="5580000" y="4149720"/>
            <a:ext cx="356868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6840" y="456840"/>
            <a:ext cx="7620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4" descr="kalistin_1"/>
          <p:cNvPicPr/>
          <p:nvPr/>
        </p:nvPicPr>
        <p:blipFill>
          <a:blip r:embed="rId1"/>
          <a:stretch/>
        </p:blipFill>
        <p:spPr>
          <a:xfrm>
            <a:off x="6299280" y="3895560"/>
            <a:ext cx="2844720" cy="284508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5"/>
          <p:cNvSpPr/>
          <p:nvPr/>
        </p:nvSpPr>
        <p:spPr>
          <a:xfrm>
            <a:off x="179280" y="0"/>
            <a:ext cx="8856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дним из важных результатов применения ИКТ в сфере образования является дистанционное обуч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 дистанционными образовательными технологиями понимаются «образовательные технологии, реализуемые в основном с применением информационных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леком-муникационных технолог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опосредованном (на расстоянии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ли не полностью опосредованно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заимодействии обучающегос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педагогического работн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96840" y="-14400"/>
            <a:ext cx="5122800" cy="67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900" spc="-1" strike="noStrike">
                <a:solidFill>
                  <a:srgbClr val="000000"/>
                </a:solidFill>
                <a:latin typeface="Arial"/>
              </a:rPr>
              <a:t>Появлению технологии дистанционного обучения способствовало развитие различных средств передачи информации на расстоянии. Основоположником данной педагогической технологии принято считать англичанина Исаака Питмана, который в 1840 году начал обучать студентов стенографии с помощью почтовых отправлений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1" descr="1005373_5373_201"/>
          <p:cNvPicPr/>
          <p:nvPr/>
        </p:nvPicPr>
        <p:blipFill>
          <a:blip r:embed="rId1"/>
          <a:stretch/>
        </p:blipFill>
        <p:spPr>
          <a:xfrm>
            <a:off x="5219640" y="0"/>
            <a:ext cx="3913200" cy="48261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2"/>
          <p:cNvSpPr/>
          <p:nvPr/>
        </p:nvSpPr>
        <p:spPr>
          <a:xfrm>
            <a:off x="5667120" y="4851360"/>
            <a:ext cx="333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саак Питма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"/>
          <p:cNvSpPr/>
          <p:nvPr/>
        </p:nvSpPr>
        <p:spPr>
          <a:xfrm>
            <a:off x="4560840" y="54975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обретатель одной из самых распространенных систем стенограф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18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897гг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164880" y="115920"/>
            <a:ext cx="5343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50-х годах XIX века Густав Лангеншайдт опубликовал в Германии «обучающие письма» - самоучитель по освоению языка. В 1870-х программы дистанционного обучения стали создаваться в США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5" descr="gustav_langenscheidt"/>
          <p:cNvPicPr/>
          <p:nvPr/>
        </p:nvPicPr>
        <p:blipFill>
          <a:blip r:embed="rId1"/>
          <a:stretch/>
        </p:blipFill>
        <p:spPr>
          <a:xfrm>
            <a:off x="5397480" y="0"/>
            <a:ext cx="3746520" cy="466884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6"/>
          <p:cNvSpPr/>
          <p:nvPr/>
        </p:nvSpPr>
        <p:spPr>
          <a:xfrm>
            <a:off x="5411160" y="5008320"/>
            <a:ext cx="371916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уста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ангеншейд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"/>
          <p:cNvSpPr/>
          <p:nvPr/>
        </p:nvSpPr>
        <p:spPr>
          <a:xfrm>
            <a:off x="4356000" y="5510160"/>
            <a:ext cx="508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ецкий педагог-методист и издател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1832 — 1895 гг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0" y="155520"/>
            <a:ext cx="507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сле 1917 года модель «консультацион-ного»(заочного) обучения была разработана в России. В 1969 году был открыт первый университет дистанционного обучения – Открытый Университет Великобритании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main?cmd=file&amp;object=1044&amp;width=315"/>
          <p:cNvPicPr/>
          <p:nvPr/>
        </p:nvPicPr>
        <p:blipFill>
          <a:blip r:embed="rId1"/>
          <a:stretch/>
        </p:blipFill>
        <p:spPr>
          <a:xfrm>
            <a:off x="5003640" y="260280"/>
            <a:ext cx="4156200" cy="3892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5719680" y="4685760"/>
            <a:ext cx="3168720" cy="82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р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крытог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итет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еликобритани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Прямоугольник 1"/>
          <p:cNvSpPr/>
          <p:nvPr/>
        </p:nvSpPr>
        <p:spPr>
          <a:xfrm>
            <a:off x="1332000" y="115920"/>
            <a:ext cx="489564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(ДО</a:t>
            </a:r>
            <a:r>
              <a:rPr b="0" lang="ru-RU" sz="2000" spc="-1" strike="noStrike">
                <a:solidFill>
                  <a:srgbClr val="000000"/>
                </a:solidFill>
                <a:latin typeface="Franklin Gothic Book"/>
              </a:rPr>
              <a:t>) — взаимодействие учителя и учащихся между собой на расстоянии, отражающее все присущие учебному процессу компоненты (цели, содержание, методы, организационные формы, средства обучения) и реализуемое специфичными средствами Интернет-технологий или другими средствами, предусматривающими интерактив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http://school84.centerstart.ru/userfiles/f_493b96e3dbec4.png"/>
          <p:cNvPicPr/>
          <p:nvPr/>
        </p:nvPicPr>
        <p:blipFill>
          <a:blip r:embed="rId1"/>
          <a:stretch/>
        </p:blipFill>
        <p:spPr>
          <a:xfrm>
            <a:off x="6012000" y="2281320"/>
            <a:ext cx="323820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2"/>
          <p:cNvSpPr/>
          <p:nvPr/>
        </p:nvSpPr>
        <p:spPr>
          <a:xfrm>
            <a:off x="108000" y="189000"/>
            <a:ext cx="8893080" cy="28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 - процесс получения знаний, умений и навыков в системе дистанционного образ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истанционное обучение — </a:t>
            </a:r>
            <a:r>
              <a:rPr b="0" lang="ru-RU" sz="2400" spc="-1" strike="noStrike">
                <a:solidFill>
                  <a:srgbClr val="000000"/>
                </a:solidFill>
                <a:latin typeface="Franklin Gothic Book"/>
              </a:rPr>
              <a:t>это самостоятельная форма обучения, информационные технологии в дистанционном обучении являются ведущим средств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http://do.sibsutis.ru/images/688_1.jpg"/>
          <p:cNvPicPr/>
          <p:nvPr/>
        </p:nvPicPr>
        <p:blipFill>
          <a:blip r:embed="rId1"/>
          <a:stretch/>
        </p:blipFill>
        <p:spPr>
          <a:xfrm>
            <a:off x="2662200" y="2492280"/>
            <a:ext cx="439092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2240" y="115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Характерные черты дистанционного образования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79280" y="1125000"/>
            <a:ext cx="896472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Гибк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обучаемые системы дистанционного образования (СДО), в основном не посещают регулярных занятий в виде лекций и семинаров, а работают в удобное для себя время в удобном месте и в удобном темпе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одульность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: в основу программ дистанционного обучения кладется модульный принцип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кономическая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эффективность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редняя оценка мировых образовательных систем показывает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то дистанционное обучение обходитс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 50% дешевле традиционных фор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бразования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4:43:51Z</dcterms:created>
  <dc:creator>sigma1</dc:creator>
  <dc:description/>
  <dc:language>en-US</dc:language>
  <cp:lastModifiedBy>ITS</cp:lastModifiedBy>
  <dcterms:modified xsi:type="dcterms:W3CDTF">2022-05-24T20:01:12Z</dcterms:modified>
  <cp:revision>78</cp:revision>
  <dc:subject/>
  <dc:title>Дистанционное обучение</dc:title>
</cp:coreProperties>
</file>